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54ABC5-D6BA-425F-A25F-F0D389B75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natural exceptional pollution events, such as forest fire smoke the air quality analysts are typically affiliated with the impacted st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ubmit their reports to the federal EPA as part of their request for exceptional event wa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A analysts review the requests and make their recommendations to the EPA regulatory decision ma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, the DSS needs to support both state and the federal an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8AD-BF90-459F-9CCE-48C6F1E3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244-DA5C-4054-8A00-58D83C5B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B53-2A21-4205-9FE0-32C48A87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815-BA2E-4530-9EA2-20CB2D8E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FB7-440D-40A5-98FE-B3A832C4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D638-7064-4B9F-BE92-06DFAA53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4EB7-154C-4F0E-AAD1-D84C86AE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CD0-59D3-47AE-96C4-C498E607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98F-F9C0-43E9-9D8C-AB7CE5BB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C11-59C6-4F6F-B69E-48B405A3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09A-A515-4F5A-B002-2F57B8E8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3F68-A8E9-4E59-B3B3-B6458B2F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0441-22C1-4CD1-8E4F-5E0D6FA94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ebapps.datafed.net/datafed.aspx?page=ESIPJan07/Can_US_FireLocs" TargetMode="External"/><Relationship Id="rId2" Type="http://schemas.openxmlformats.org/officeDocument/2006/relationships/hyperlink" Target="http://webapps.datafed.net/datafed.aspx?page=ESIPJan07/Can_US_FireLocs" TargetMode="External"/><Relationship Id="rId3" Type="http://schemas.openxmlformats.org/officeDocument/2006/relationships/hyperlink" Target="http://webapps.datafed.net/datafed.aspx?page=ESIPJan07/Can_US_FireLocs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ebapps.datafed.net/datafed.aspx?page=ESIPJan07/Can_US_FireLocswSmoke" TargetMode="External"/><Relationship Id="rId3" Type="http://schemas.openxmlformats.org/officeDocument/2006/relationships/hyperlink" Target="http://webapps.datafed.net/datafed.aspx?page=ESIPJan07/Can_US_FireLocswSmoke" TargetMode="External"/><Relationship Id="rId4" Type="http://schemas.openxmlformats.org/officeDocument/2006/relationships/hyperlink" Target="http://webapps.datafed.net/datafed.aspx?page=ESIPJan07/Can_US_FireLocswSmoke" TargetMode="External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2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3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4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5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6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7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8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9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10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11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12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13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14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15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2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3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4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5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6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7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8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9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0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1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2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3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4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5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6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7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8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2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3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4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5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6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7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8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9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10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11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12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13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14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15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16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7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8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9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0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1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2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3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4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5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6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7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8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9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0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1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2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3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4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5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6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7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8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9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0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1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2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3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4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5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6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7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8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9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0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1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2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3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4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5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6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7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8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9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0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1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2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3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4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5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6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7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8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9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0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1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2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3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4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5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6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7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8" Type="http://schemas.openxmlformats.org/officeDocument/2006/relationships/image" Target="../media/image9.png"/><Relationship Id="rId69" Type="http://schemas.openxmlformats.org/officeDocument/2006/relationships/image" Target="../media/image10.png"/><Relationship Id="rId7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9960" y="888840"/>
            <a:ext cx="51336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 Quality Demon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d for the 1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SIP Feder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3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1240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 Quality Community Support through New Information Technologies (screencast by Husar and Robin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st Fire Smoke Event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ied fire lo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7160" y="6361200"/>
            <a:ext cx="807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webapps.datafed.net/datafed.aspx?page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=ESIPJan07/Can_US_FireL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rcRect l="8125" t="1001" r="14375" b="13000"/>
          <a:stretch/>
        </p:blipFill>
        <p:spPr>
          <a:xfrm>
            <a:off x="533520" y="685800"/>
            <a:ext cx="79246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ed Smoke Patt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7499" t="1001" r="9377" b="11999"/>
          <a:stretch/>
        </p:blipFill>
        <p:spPr>
          <a:xfrm>
            <a:off x="609480" y="762120"/>
            <a:ext cx="8229600" cy="5383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5760" y="6248520"/>
            <a:ext cx="89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webapps.datafed.net/datafed.aspx?page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=ESIPJan07/Can_US_FireLocswSm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tellite Observ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5562720" cy="3476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429000" y="3124080"/>
            <a:ext cx="5715000" cy="3571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63200" y="1066680"/>
            <a:ext cx="112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S 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44280" y="2971800"/>
            <a:ext cx="1465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S A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867280"/>
            <a:ext cx="457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51055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apps.datafed.net/datafed.aspx?page=ESIPJan07/Can_US_Smoke_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rface Observ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582040" cy="5362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60200" y="2514600"/>
            <a:ext cx="23112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inction 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298000">
            <a:off x="2285640" y="297144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74480" y="4267080"/>
            <a:ext cx="19699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ulate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2051000">
            <a:off x="5257800" y="426672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2040" y="4038480"/>
            <a:ext cx="75708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624852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apps.datafed.net/datafed.aspx?page=ESIPJan07/Can_US_Smoke_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erosol Mod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01160" cy="5124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78320" y="609480"/>
            <a:ext cx="1159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C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6172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apps.datafed.net/datafed.aspx?page=ESIPJan07/Can_US_Smoke_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e Series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6477120" cy="5060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429000" y="5502240"/>
            <a:ext cx="5362560" cy="1355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697120" y="2514600"/>
            <a:ext cx="304920" cy="360360"/>
          </a:xfrm>
          <a:prstGeom prst="ellipse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971800" y="2362320"/>
            <a:ext cx="2819520" cy="30456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0080" y="2170080"/>
            <a:ext cx="199260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971800" y="4266720"/>
            <a:ext cx="2590920" cy="22860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46240" y="3962520"/>
            <a:ext cx="141048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6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6324120" y="4419720"/>
            <a:ext cx="228600" cy="137160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594216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apps.datafed.net/datafed.aspx?page=ESIPJan07/Can_US_Smoke_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id Operator Process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381720" cy="1600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7499" t="1001" r="12500" b="14002"/>
          <a:stretch/>
        </p:blipFill>
        <p:spPr>
          <a:xfrm>
            <a:off x="2971800" y="2590920"/>
            <a:ext cx="5943600" cy="394632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533520" y="1143000"/>
            <a:ext cx="1828800" cy="1905120"/>
            <a:chOff x="533520" y="1143000"/>
            <a:chExt cx="1828800" cy="1905120"/>
          </a:xfrm>
        </p:grpSpPr>
        <p:sp>
          <p:nvSpPr>
            <p:cNvPr id="199" name=""/>
            <p:cNvSpPr/>
            <p:nvPr/>
          </p:nvSpPr>
          <p:spPr>
            <a:xfrm>
              <a:off x="533520" y="2514600"/>
              <a:ext cx="182880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 Gr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6-06-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1219320" y="1143000"/>
              <a:ext cx="38088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85800" y="1600200"/>
            <a:ext cx="1828800" cy="1905120"/>
            <a:chOff x="685800" y="1600200"/>
            <a:chExt cx="1828800" cy="1905120"/>
          </a:xfrm>
        </p:grpSpPr>
        <p:sp>
          <p:nvSpPr>
            <p:cNvPr id="202" name=""/>
            <p:cNvSpPr/>
            <p:nvPr/>
          </p:nvSpPr>
          <p:spPr>
            <a:xfrm>
              <a:off x="685800" y="2971800"/>
              <a:ext cx="182880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 Gr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6-07-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371600" y="1600200"/>
              <a:ext cx="38088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58040" y="6491160"/>
            <a:ext cx="82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apps.datafed.net/datafed.aspx?page=ESIPJan07/GOCART_Time_D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124080" y="533520"/>
            <a:ext cx="5486400" cy="1619280"/>
            <a:chOff x="3124080" y="533520"/>
            <a:chExt cx="5486400" cy="1619280"/>
          </a:xfrm>
        </p:grpSpPr>
        <p:pic>
          <p:nvPicPr>
            <p:cNvPr id="206" name="" descr=""/>
            <p:cNvPicPr/>
            <p:nvPr/>
          </p:nvPicPr>
          <p:blipFill>
            <a:blip r:embed="rId3"/>
            <a:srcRect l="10649" t="38996" r="53769" b="37007"/>
            <a:stretch/>
          </p:blipFill>
          <p:spPr>
            <a:xfrm>
              <a:off x="4952880" y="609480"/>
              <a:ext cx="3657600" cy="1543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7" name=""/>
            <p:cNvSpPr/>
            <p:nvPr/>
          </p:nvSpPr>
          <p:spPr>
            <a:xfrm flipV="1">
              <a:off x="3124080" y="990360"/>
              <a:ext cx="1828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43800" y="533520"/>
              <a:ext cx="91440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t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ogleMaps Mashu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5486400" cy="43844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289600" y="632448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iceguy.wustl.edu/FireGoogl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505320" y="3200400"/>
            <a:ext cx="5181480" cy="2989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023160" y="129528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oogleMaps API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TML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Javascript = Web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 Quality Cluster Breakout S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13120" y="129528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:00-11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79132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257800" cy="293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27522" t="21988" r="29270" b="26022"/>
          <a:stretch/>
        </p:blipFill>
        <p:spPr>
          <a:xfrm>
            <a:off x="4495680" y="2928960"/>
            <a:ext cx="4114800" cy="36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2438280" y="4648320"/>
            <a:ext cx="2667240" cy="58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Robinson, Husar demonstration at IGAR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8088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monstration of interoperable data and analysis services for analyzing a forest fire smoke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971800" y="609480"/>
            <a:ext cx="3429000" cy="304812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9511400">
            <a:off x="5867280" y="2437920"/>
            <a:ext cx="932040" cy="304920"/>
          </a:xfrm>
          <a:prstGeom prst="rightArrow">
            <a:avLst>
              <a:gd name="adj1" fmla="val 30019"/>
              <a:gd name="adj2" fmla="val 535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978800">
            <a:off x="4267080" y="1599840"/>
            <a:ext cx="990720" cy="304920"/>
          </a:xfrm>
          <a:prstGeom prst="rightArrow">
            <a:avLst>
              <a:gd name="adj1" fmla="val 30019"/>
              <a:gd name="adj2" fmla="val 56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2133720"/>
            <a:ext cx="121896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ent Knowledg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into the Minds of</a:t>
            </a:r>
            <a:br>
              <a:rPr sz="10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A An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600200"/>
            <a:ext cx="121896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owledge int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he Minds of </a:t>
            </a:r>
            <a:br>
              <a:rPr sz="10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Analys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56200">
            <a:off x="2506320" y="1316160"/>
            <a:ext cx="990720" cy="304560"/>
          </a:xfrm>
          <a:prstGeom prst="rightArrow">
            <a:avLst>
              <a:gd name="adj1" fmla="val 30019"/>
              <a:gd name="adj2" fmla="val 570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056200">
            <a:off x="5532480" y="1612440"/>
            <a:ext cx="1316160" cy="304920"/>
          </a:xfrm>
          <a:prstGeom prst="rightArrow">
            <a:avLst>
              <a:gd name="adj1" fmla="val 30019"/>
              <a:gd name="adj2" fmla="val 756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978800">
            <a:off x="2441520" y="2452320"/>
            <a:ext cx="990720" cy="304920"/>
          </a:xfrm>
          <a:prstGeom prst="rightArrow">
            <a:avLst>
              <a:gd name="adj1" fmla="val 30019"/>
              <a:gd name="adj2" fmla="val 56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S for Regulatory Exceptional Event Decisions (Husar, 200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2362320"/>
            <a:ext cx="12952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682560"/>
            <a:ext cx="1447560" cy="762120"/>
          </a:xfrm>
          <a:prstGeom prst="rect">
            <a:avLst/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t Reports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 Forecasts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.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685800"/>
            <a:ext cx="1371600" cy="609480"/>
          </a:xfrm>
          <a:prstGeom prst="rect">
            <a:avLst/>
          </a:prstGeom>
          <a:solidFill>
            <a:srgbClr val="00ff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2362320"/>
            <a:ext cx="380880" cy="2286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334120" y="1447560"/>
            <a:ext cx="0" cy="685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562040" y="1714680"/>
            <a:ext cx="990720" cy="304560"/>
          </a:xfrm>
          <a:prstGeom prst="rightArrow">
            <a:avLst>
              <a:gd name="adj1" fmla="val 30019"/>
              <a:gd name="adj2" fmla="val 570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5143320" y="1638360"/>
            <a:ext cx="685800" cy="304560"/>
          </a:xfrm>
          <a:prstGeom prst="rightArrow">
            <a:avLst>
              <a:gd name="adj1" fmla="val 30019"/>
              <a:gd name="adj2" fmla="val 39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723960"/>
            <a:ext cx="2057400" cy="304920"/>
          </a:xfrm>
          <a:prstGeom prst="rightArrow">
            <a:avLst>
              <a:gd name="adj1" fmla="val 30204"/>
              <a:gd name="adj2" fmla="val 678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1981080"/>
            <a:ext cx="761760" cy="304920"/>
          </a:xfrm>
          <a:prstGeom prst="rightArrow">
            <a:avLst>
              <a:gd name="adj1" fmla="val 30204"/>
              <a:gd name="adj2" fmla="val 489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1600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1600200"/>
            <a:ext cx="1218960" cy="1143000"/>
          </a:xfrm>
          <a:prstGeom prst="ellipse">
            <a:avLst/>
          </a:prstGeom>
          <a:solidFill>
            <a:srgbClr val="9933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ent Knowledg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o the Minds of </a:t>
            </a:r>
            <a:br>
              <a:rPr sz="10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A Regu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33526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ision Suppor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4876920" cy="25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 flipV="1">
            <a:off x="6248520" y="2743200"/>
            <a:ext cx="914400" cy="228600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800600" y="3657600"/>
            <a:ext cx="0" cy="99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8769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SS Architecture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se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5800" y="609480"/>
          <a:ext cx="7620120" cy="5640480"/>
        </p:xfrm>
        <a:graphic>
          <a:graphicData uri="http://schemas.openxmlformats.org/drawingml/2006/table">
            <a:tbl>
              <a:tblPr/>
              <a:tblGrid>
                <a:gridCol w="2239920"/>
                <a:gridCol w="1569960"/>
                <a:gridCol w="1905120"/>
                <a:gridCol w="19051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e Occur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AA NGDC H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S / W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 Ar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AA NGDC H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CART Aerosol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S / W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S Aerosol Optical Thick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A GSFC Giovan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L Templ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2.5 Concent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Moni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A AirN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L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Moni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ymouth St. Weather 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L Templ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S Aerosol 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L Templ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 N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L Templ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 N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A GSF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311400" y="6248520"/>
            <a:ext cx="83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is is not a comprehensive list of available fire/smoke/air quality datas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1676520"/>
            <a:ext cx="25909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C Web Map Service (WMS) Exam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4120" y="762120"/>
            <a:ext cx="39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AA HMS Analyzed Smok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357920"/>
            <a:ext cx="7848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gdsg.ngdc.noaa.gov/gdsg/FiresWMS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&amp;layers=Analyzed Smo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bbox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=-130,22,-66,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&amp;TIME=2006-07-0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&amp;width=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&amp;height=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reaspect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=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4"/>
              </a:rPr>
              <a:t>&amp;format=image/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5"/>
              </a:rPr>
              <a:t>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2209680"/>
            <a:ext cx="1218960" cy="533520"/>
          </a:xfrm>
          <a:prstGeom prst="rightArrow">
            <a:avLst>
              <a:gd name="adj1" fmla="val 50000"/>
              <a:gd name="adj2" fmla="val 57119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6"/>
          <a:stretch/>
        </p:blipFill>
        <p:spPr>
          <a:xfrm>
            <a:off x="5181480" y="1447920"/>
            <a:ext cx="3657600" cy="2544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map"/>
          <p:cNvPicPr/>
          <p:nvPr/>
        </p:nvPicPr>
        <p:blipFill>
          <a:blip r:embed="rId17"/>
          <a:srcRect l="14653" t="9172" r="7074" b="25172"/>
          <a:stretch/>
        </p:blipFill>
        <p:spPr>
          <a:xfrm>
            <a:off x="2743200" y="4648320"/>
            <a:ext cx="4797360" cy="19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 rot="5400000">
            <a:off x="5637960" y="4191480"/>
            <a:ext cx="507960" cy="201600"/>
          </a:xfrm>
          <a:prstGeom prst="rightArrow">
            <a:avLst>
              <a:gd name="adj1" fmla="val 50000"/>
              <a:gd name="adj2" fmla="val 62991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362320"/>
            <a:ext cx="4648320" cy="76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C “Web Feature Service (WFS)–esque” Exam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5120" y="914400"/>
            <a:ext cx="53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AA HMS Fire Location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t a compliant OGC W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371600"/>
            <a:ext cx="6553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gdsg.ngdc.noaa.gov/firesMapserver/servlet/fireswfs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SERVICE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w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&amp;REQUEST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Get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&amp;VERSION=1.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TypeName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h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&amp;BBOX=-125.3889,22.55111,-61.40667,51.208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4"/>
              </a:rPr>
              <a:t>&amp;TIME=2006-07-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5"/>
              </a:rPr>
              <a:t>&amp;CRS=EPSG:43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6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7"/>
              </a:rPr>
              <a:t>outputFormat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8"/>
              </a:rPr>
              <a:t>=CS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28195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9"/>
          <a:stretch/>
        </p:blipFill>
        <p:spPr>
          <a:xfrm>
            <a:off x="5808600" y="914400"/>
            <a:ext cx="3335400" cy="5334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10800000">
            <a:off x="5028840" y="5181480"/>
            <a:ext cx="507960" cy="201600"/>
          </a:xfrm>
          <a:prstGeom prst="rightArrow">
            <a:avLst>
              <a:gd name="adj1" fmla="val 50000"/>
              <a:gd name="adj2" fmla="val 62991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map"/>
          <p:cNvPicPr/>
          <p:nvPr/>
        </p:nvPicPr>
        <p:blipFill>
          <a:blip r:embed="rId20"/>
          <a:srcRect l="14653" t="7257" r="8793" b="25172"/>
          <a:stretch/>
        </p:blipFill>
        <p:spPr>
          <a:xfrm>
            <a:off x="762120" y="4419720"/>
            <a:ext cx="4114800" cy="19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2438280"/>
            <a:ext cx="3429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C Web Coverage Server (WCS) - Poi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990720"/>
            <a:ext cx="565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webapps.datafed.net/ogc_EPA.wsfl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SERVICE=W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&amp;REQUEST=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Get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&amp;VERSION=1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&amp;CRS=EPSG:4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&amp;COVERAGE=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AIRNOW.pmf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&amp;TIME=2006-07-06T14:00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&amp;BBOX=-130,24,-65,52,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&amp;WIDTH=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4"/>
              </a:rPr>
              <a:t>&amp;HEIGHT=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5"/>
              </a:rPr>
              <a:t>&amp;DEPTH=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6"/>
              </a:rPr>
              <a:t>&amp;FORMAT=dataset-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7"/>
          <a:stretch/>
        </p:blipFill>
        <p:spPr>
          <a:xfrm>
            <a:off x="4191120" y="1523880"/>
            <a:ext cx="4800600" cy="5099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86200" y="2895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RL Template Exam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10800"/>
            <a:ext cx="9144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g0dup05u.ecs.nasa.gov/cgi-bin/Giovanni/Giovanni_cgi.p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west=-180&amp;north=90&amp;east=180&amp;south=-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&amp;data=0%23%23%23Aerosol+Optical+Depth+at+0.55+Micron+%28Daytime%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landocean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landoc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&amp;type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Area+P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b_year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=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4"/>
              </a:rPr>
              <a:t>b_month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5"/>
              </a:rPr>
              <a:t>=Aug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6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7"/>
              </a:rPr>
              <a:t>b_day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8"/>
              </a:rPr>
              <a:t>=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9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0"/>
              </a:rPr>
              <a:t>e_year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1"/>
              </a:rPr>
              <a:t>=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2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3"/>
              </a:rPr>
              <a:t>e_month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4"/>
              </a:rPr>
              <a:t>=Aug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5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6"/>
              </a:rPr>
              <a:t>e_day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7"/>
              </a:rPr>
              <a:t>=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8"/>
              </a:rPr>
              <a:t>&amp;end_date=2006%2F08%2F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9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0"/>
              </a:rPr>
              <a:t>data_limit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1"/>
              </a:rPr>
              <a:t>=24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2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3"/>
              </a:rPr>
              <a:t>cbar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4"/>
              </a:rPr>
              <a:t>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5"/>
              </a:rPr>
              <a:t>cp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6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7"/>
              </a:rPr>
              <a:t>cmin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8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9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0"/>
              </a:rPr>
              <a:t>cmax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1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2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3"/>
              </a:rPr>
              <a:t>tpbar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4"/>
              </a:rPr>
              <a:t>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5"/>
              </a:rPr>
              <a:t>tpdy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6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7"/>
              </a:rPr>
              <a:t>tpmin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8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9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0"/>
              </a:rPr>
              <a:t>tpmax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1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2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3"/>
              </a:rPr>
              <a:t>tpint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4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5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6"/>
              </a:rPr>
              <a:t>asc_res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7"/>
              </a:rPr>
              <a:t>=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8"/>
              </a:rPr>
              <a:t>&amp;global_cfg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9"/>
              </a:rPr>
              <a:t>global.cfg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0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1"/>
              </a:rPr>
              <a:t>data_sys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2"/>
              </a:rPr>
              <a:t>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3"/>
              </a:rPr>
              <a:t>modis&amp;pid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4"/>
              </a:rPr>
              <a:t>=MOD08_D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5"/>
              </a:rPr>
              <a:t>&amp;action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6"/>
              </a:rPr>
              <a:t>ASCII+Output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7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733920" y="1905120"/>
            <a:ext cx="5257800" cy="4682880"/>
            <a:chOff x="3733920" y="1905120"/>
            <a:chExt cx="5257800" cy="4682880"/>
          </a:xfrm>
        </p:grpSpPr>
        <p:pic>
          <p:nvPicPr>
            <p:cNvPr id="106" name="" descr=""/>
            <p:cNvPicPr/>
            <p:nvPr/>
          </p:nvPicPr>
          <p:blipFill>
            <a:blip r:embed="rId68"/>
            <a:stretch/>
          </p:blipFill>
          <p:spPr>
            <a:xfrm>
              <a:off x="3733920" y="1905120"/>
              <a:ext cx="5257800" cy="46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69"/>
            <a:srcRect l="2324" t="17532" r="58140" b="4547"/>
            <a:stretch/>
          </p:blipFill>
          <p:spPr>
            <a:xfrm>
              <a:off x="3879720" y="3573000"/>
              <a:ext cx="1898640" cy="27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3124080" y="4038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3000" y="609480"/>
            <a:ext cx="25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SA GSFC Giov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533520"/>
            <a:ext cx="8381880" cy="609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447920"/>
            <a:ext cx="6248520" cy="4267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2133720"/>
            <a:ext cx="3200400" cy="24382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 and Service Sharing &amp; Network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880" y="1600200"/>
            <a:ext cx="8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3680" y="4800600"/>
            <a:ext cx="129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AA 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ellite Fi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3640" y="1600200"/>
            <a:ext cx="127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SA GSF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440" y="4724280"/>
            <a:ext cx="154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ogle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e/AQ Mash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3120" y="3352680"/>
            <a:ext cx="170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ucation Clu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GS Map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1480" y="266688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CS / W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5520" y="380988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AA 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MS / W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50480" y="2590920"/>
            <a:ext cx="122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SA GSF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02040" y="34290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A Air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96040" y="3276720"/>
            <a:ext cx="127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A Air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057400" y="1981080"/>
            <a:ext cx="4419720" cy="2819520"/>
            <a:chOff x="2057400" y="1981080"/>
            <a:chExt cx="4419720" cy="2819520"/>
          </a:xfrm>
        </p:grpSpPr>
        <p:sp>
          <p:nvSpPr>
            <p:cNvPr id="125" name=""/>
            <p:cNvSpPr/>
            <p:nvPr/>
          </p:nvSpPr>
          <p:spPr>
            <a:xfrm flipH="1" flipV="1">
              <a:off x="2438280" y="1981080"/>
              <a:ext cx="914400" cy="609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057400" y="2895480"/>
              <a:ext cx="990720" cy="457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733920" y="4343400"/>
              <a:ext cx="457200" cy="457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867280" y="2133360"/>
              <a:ext cx="609840" cy="533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57800" y="4267080"/>
              <a:ext cx="914400" cy="457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123720" y="3276720"/>
              <a:ext cx="381240" cy="13716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019920" y="3352320"/>
              <a:ext cx="380880" cy="2286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962520" y="2743200"/>
            <a:ext cx="990000" cy="990720"/>
            <a:chOff x="3962520" y="2743200"/>
            <a:chExt cx="990000" cy="990720"/>
          </a:xfrm>
        </p:grpSpPr>
        <p:sp>
          <p:nvSpPr>
            <p:cNvPr id="133" name=""/>
            <p:cNvSpPr/>
            <p:nvPr/>
          </p:nvSpPr>
          <p:spPr>
            <a:xfrm flipH="1">
              <a:off x="4190760" y="27432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3962520" y="3200400"/>
              <a:ext cx="380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4343040" y="312372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8458200" y="327672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228920" y="6286320"/>
            <a:ext cx="609480" cy="533520"/>
          </a:xfrm>
          <a:prstGeom prst="rightArrow">
            <a:avLst>
              <a:gd name="adj1" fmla="val 50000"/>
              <a:gd name="adj2" fmla="val 28559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75960" y="327636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19240" y="533520"/>
            <a:ext cx="1835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Portals, Cata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71160" y="1447920"/>
            <a:ext cx="1395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73920" y="2133720"/>
            <a:ext cx="619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960" y="8888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IP E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21720" y="91440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SA E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1752480"/>
            <a:ext cx="127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A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4600" y="18288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5320" y="441972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50520" y="480060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00600" y="4876920"/>
            <a:ext cx="1066680" cy="761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666880" y="1905120"/>
            <a:ext cx="3581640" cy="0"/>
          </a:xfrm>
          <a:prstGeom prst="line">
            <a:avLst/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rcRect l="21898" t="32037" r="24971" b="11040"/>
          <a:stretch/>
        </p:blipFill>
        <p:spPr>
          <a:xfrm>
            <a:off x="6324480" y="2286000"/>
            <a:ext cx="1219320" cy="81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971800" y="4876920"/>
            <a:ext cx="1219320" cy="703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400800" y="3733920"/>
            <a:ext cx="1104840" cy="7459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838080" y="1066680"/>
            <a:ext cx="7315200" cy="3429000"/>
            <a:chOff x="838080" y="1066680"/>
            <a:chExt cx="7315200" cy="3429000"/>
          </a:xfrm>
        </p:grpSpPr>
        <p:sp>
          <p:nvSpPr>
            <p:cNvPr id="155" name=""/>
            <p:cNvSpPr/>
            <p:nvPr/>
          </p:nvSpPr>
          <p:spPr>
            <a:xfrm>
              <a:off x="2438280" y="1066680"/>
              <a:ext cx="358164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8080" y="2133720"/>
              <a:ext cx="0" cy="220968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914400" y="1143000"/>
              <a:ext cx="533520" cy="68580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53280" y="2286000"/>
              <a:ext cx="0" cy="220968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1066680"/>
              <a:ext cx="838080" cy="68580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21:38:46Z</dcterms:created>
  <dc:creator>OneTwoThree </dc:creator>
  <dc:description/>
  <dc:language>en-US</dc:language>
  <cp:lastModifiedBy>s</cp:lastModifiedBy>
  <dcterms:modified xsi:type="dcterms:W3CDTF">2007-01-15T21:41:23Z</dcterms:modified>
  <cp:revision>56</cp:revision>
  <dc:subject/>
  <dc:title>Slide 1</dc:title>
</cp:coreProperties>
</file>